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FEFC-9BFB-4C32-8855-BB6EC5419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A5A7-5692-436F-9297-B593058AD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076B-2954-4633-BD3F-2D883D297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763D-0337-4962-9C04-902ABFC92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45F7-D469-40E2-AACA-76E1B548C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0962-083D-42C0-BA6E-F88D80C6D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AC82-F7BD-4374-AA59-9996448D7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B170-2A25-4640-9809-B386C92BA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CF56-BCC4-47AA-A7FB-69B37D0ED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85C1-0C4F-459E-B784-BE7F83565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C4CE-2DCE-45EB-872A-3A09AFFE3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02B7-580C-4376-AEB6-0890C8A3E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7519C-62C4-42B6-B932-8D758B95B5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31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500" spc="-1" strike="noStrike" u="sng">
                <a:solidFill>
                  <a:srgbClr val="000000"/>
                </a:solidFill>
                <a:uFillTx/>
                <a:latin typeface="Arial"/>
              </a:rPr>
              <a:t>THE CAT N’ MOUSE GAME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43200" y="6400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ock Cho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 flipV="1">
            <a:off x="22320" y="0"/>
            <a:ext cx="0" cy="685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82956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844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144000" y="0"/>
            <a:ext cx="0" cy="685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886200"/>
            <a:ext cx="3657600" cy="2971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rId2" action="ppaction://hlinksldjump"/>
          </p:cNvPr>
          <p:cNvSpPr/>
          <p:nvPr/>
        </p:nvSpPr>
        <p:spPr>
          <a:xfrm>
            <a:off x="-533520" y="0"/>
            <a:ext cx="4114800" cy="243828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10800000">
            <a:off x="3733920" y="-360"/>
            <a:ext cx="7238880" cy="19810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 rot="459000">
            <a:off x="2742840" y="3276360"/>
            <a:ext cx="3429000" cy="990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2028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 Black"/>
              </a:rPr>
              <a:t>BEGIN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 Black"/>
              <a:ea typeface="Arial Black"/>
            </a:endParaRPr>
          </a:p>
        </p:txBody>
      </p:sp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7620120" y="6172200"/>
            <a:ext cx="1295280" cy="457200"/>
          </a:xfrm>
          <a:custGeom>
            <a:avLst/>
            <a:gdLst>
              <a:gd name="textAreaLeft" fmla="*/ 29520 w 1295280"/>
              <a:gd name="textAreaRight" fmla="*/ 1265760 w 1295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63" h="21600">
                <a:moveTo>
                  <a:pt x="0" y="0"/>
                </a:moveTo>
                <a:lnTo>
                  <a:pt x="61163" y="0"/>
                </a:lnTo>
                <a:lnTo>
                  <a:pt x="61163" y="21600"/>
                </a:lnTo>
                <a:lnTo>
                  <a:pt x="0" y="21600"/>
                </a:lnTo>
                <a:close/>
              </a:path>
              <a:path fill="lightenLess" w="61163" h="21600">
                <a:moveTo>
                  <a:pt x="0" y="0"/>
                </a:moveTo>
                <a:lnTo>
                  <a:pt x="61163" y="0"/>
                </a:lnTo>
                <a:lnTo>
                  <a:pt x="59763" y="1400"/>
                </a:lnTo>
                <a:lnTo>
                  <a:pt x="1400" y="1400"/>
                </a:lnTo>
                <a:close/>
              </a:path>
              <a:path fill="darken" w="61163" h="21600">
                <a:moveTo>
                  <a:pt x="61163" y="0"/>
                </a:moveTo>
                <a:lnTo>
                  <a:pt x="61163" y="21600"/>
                </a:lnTo>
                <a:lnTo>
                  <a:pt x="59763" y="20200"/>
                </a:lnTo>
                <a:lnTo>
                  <a:pt x="59763" y="1400"/>
                </a:lnTo>
                <a:close/>
              </a:path>
              <a:path fill="darkenLess" w="61163" h="21600">
                <a:moveTo>
                  <a:pt x="61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3" y="20200"/>
                </a:lnTo>
                <a:close/>
              </a:path>
              <a:path fill="lighten" w="61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500"/>
                            </p:stCondLst>
                            <p:childTnLst>
                              <p:par>
                                <p:cTn id="1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6500"/>
                            </p:stCondLst>
                            <p:childTnLst>
                              <p:par>
                                <p:cTn id="21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2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8500"/>
                            </p:stCondLst>
                            <p:childTnLst>
                              <p:par>
                                <p:cTn id="2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9000"/>
                            </p:stCondLst>
                            <p:childTnLst>
                              <p:par>
                                <p:cTn id="2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54335E-006 L -0.0125 0.67699 E">
                                      <p:cBhvr>
                                        <p:cTn id="33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3000"/>
                            </p:stCondLst>
                            <p:childTnLst>
                              <p:par>
                                <p:cTn id="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a2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Nice Try</a:t>
            </a:r>
            <a:br>
              <a:rPr sz="8000"/>
            </a:br>
            <a:br>
              <a:rPr sz="40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295280" y="4800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CHEATER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" action="ppaction://hlinkshowjump?jump=nextslide"/>
          </p:cNvPr>
          <p:cNvSpPr/>
          <p:nvPr/>
        </p:nvSpPr>
        <p:spPr>
          <a:xfrm>
            <a:off x="2133720" y="2590920"/>
            <a:ext cx="4800600" cy="1752480"/>
          </a:xfrm>
          <a:custGeom>
            <a:avLst/>
            <a:gdLst>
              <a:gd name="textAreaLeft" fmla="*/ 241200 w 4800600"/>
              <a:gd name="textAreaRight" fmla="*/ 4559400 w 4800600"/>
              <a:gd name="textAreaTop" fmla="*/ 241200 h 1752480"/>
              <a:gd name="textAreaBottom" fmla="*/ 1511280 h 1752480"/>
            </a:gdLst>
            <a:ahLst/>
            <a:rect l="textAreaLeft" t="textAreaTop" r="textAreaRight" b="textAreaBottom"/>
            <a:pathLst>
              <a:path w="59162" h="21600">
                <a:moveTo>
                  <a:pt x="0" y="0"/>
                </a:moveTo>
                <a:lnTo>
                  <a:pt x="59162" y="0"/>
                </a:lnTo>
                <a:lnTo>
                  <a:pt x="59162" y="21600"/>
                </a:lnTo>
                <a:lnTo>
                  <a:pt x="0" y="21600"/>
                </a:lnTo>
                <a:close/>
              </a:path>
              <a:path fill="lightenLess" w="59162" h="21600">
                <a:moveTo>
                  <a:pt x="0" y="0"/>
                </a:moveTo>
                <a:lnTo>
                  <a:pt x="59162" y="0"/>
                </a:lnTo>
                <a:lnTo>
                  <a:pt x="56188" y="2974"/>
                </a:lnTo>
                <a:lnTo>
                  <a:pt x="2974" y="2974"/>
                </a:lnTo>
                <a:close/>
              </a:path>
              <a:path fill="darken" w="59162" h="21600">
                <a:moveTo>
                  <a:pt x="59162" y="0"/>
                </a:moveTo>
                <a:lnTo>
                  <a:pt x="59162" y="21600"/>
                </a:lnTo>
                <a:lnTo>
                  <a:pt x="56188" y="18626"/>
                </a:lnTo>
                <a:lnTo>
                  <a:pt x="56188" y="2974"/>
                </a:lnTo>
                <a:close/>
              </a:path>
              <a:path fill="darkenLess" w="59162" h="21600">
                <a:moveTo>
                  <a:pt x="59162" y="21600"/>
                </a:moveTo>
                <a:lnTo>
                  <a:pt x="0" y="21600"/>
                </a:lnTo>
                <a:lnTo>
                  <a:pt x="2974" y="18626"/>
                </a:lnTo>
                <a:lnTo>
                  <a:pt x="56188" y="18626"/>
                </a:lnTo>
                <a:close/>
              </a:path>
              <a:path fill="lighten" w="59162" h="21600">
                <a:moveTo>
                  <a:pt x="0" y="21600"/>
                </a:moveTo>
                <a:lnTo>
                  <a:pt x="0" y="0"/>
                </a:lnTo>
                <a:lnTo>
                  <a:pt x="2974" y="2974"/>
                </a:lnTo>
                <a:lnTo>
                  <a:pt x="2974" y="1862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457200"/>
            <a:ext cx="5334120" cy="4114800"/>
          </a:xfrm>
          <a:prstGeom prst="smileyFace">
            <a:avLst>
              <a:gd name="adj" fmla="val -465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 rot="5898000">
            <a:off x="4952880" y="2971440"/>
            <a:ext cx="6019560" cy="1143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53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GOOD TRY</a:t>
            </a:r>
            <a:endParaRPr b="0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4876920"/>
            <a:ext cx="4191120" cy="1828800"/>
          </a:xfrm>
          <a:custGeom>
            <a:avLst/>
            <a:gdLst>
              <a:gd name="textAreaLeft" fmla="*/ 274680 w 4191120"/>
              <a:gd name="textAreaRight" fmla="*/ 3916440 w 4191120"/>
              <a:gd name="textAreaTop" fmla="*/ 274680 h 1828800"/>
              <a:gd name="textAreaBottom" fmla="*/ 1554120 h 1828800"/>
            </a:gdLst>
            <a:ahLst/>
            <a:rect l="textAreaLeft" t="textAreaTop" r="textAreaRight" b="textAreaBottom"/>
            <a:pathLst>
              <a:path w="49496" h="21600">
                <a:moveTo>
                  <a:pt x="0" y="0"/>
                </a:moveTo>
                <a:lnTo>
                  <a:pt x="49496" y="0"/>
                </a:lnTo>
                <a:lnTo>
                  <a:pt x="49496" y="21600"/>
                </a:lnTo>
                <a:lnTo>
                  <a:pt x="0" y="21600"/>
                </a:lnTo>
                <a:close/>
              </a:path>
              <a:path fill="lightenLess" w="49496" h="21600">
                <a:moveTo>
                  <a:pt x="0" y="0"/>
                </a:moveTo>
                <a:lnTo>
                  <a:pt x="49496" y="0"/>
                </a:lnTo>
                <a:lnTo>
                  <a:pt x="46252" y="3244"/>
                </a:lnTo>
                <a:lnTo>
                  <a:pt x="3244" y="3244"/>
                </a:lnTo>
                <a:close/>
              </a:path>
              <a:path fill="darken" w="49496" h="21600">
                <a:moveTo>
                  <a:pt x="49496" y="0"/>
                </a:moveTo>
                <a:lnTo>
                  <a:pt x="49496" y="21600"/>
                </a:lnTo>
                <a:lnTo>
                  <a:pt x="46252" y="18356"/>
                </a:lnTo>
                <a:lnTo>
                  <a:pt x="46252" y="3244"/>
                </a:lnTo>
                <a:close/>
              </a:path>
              <a:path fill="darkenLess" w="49496" h="21600">
                <a:moveTo>
                  <a:pt x="49496" y="21600"/>
                </a:moveTo>
                <a:lnTo>
                  <a:pt x="0" y="21600"/>
                </a:lnTo>
                <a:lnTo>
                  <a:pt x="3244" y="18356"/>
                </a:lnTo>
                <a:lnTo>
                  <a:pt x="46252" y="18356"/>
                </a:lnTo>
                <a:close/>
              </a:path>
              <a:path fill="lighten" w="49496" h="21600">
                <a:moveTo>
                  <a:pt x="0" y="21600"/>
                </a:moveTo>
                <a:lnTo>
                  <a:pt x="0" y="0"/>
                </a:lnTo>
                <a:lnTo>
                  <a:pt x="3244" y="3244"/>
                </a:lnTo>
                <a:lnTo>
                  <a:pt x="3244" y="1835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y Aga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800600" y="4876920"/>
            <a:ext cx="1828800" cy="1752480"/>
          </a:xfrm>
          <a:custGeom>
            <a:avLst/>
            <a:gdLst>
              <a:gd name="textAreaLeft" fmla="*/ 232560 w 1828800"/>
              <a:gd name="textAreaRight" fmla="*/ 1596240 w 1828800"/>
              <a:gd name="textAreaTop" fmla="*/ 232560 h 1752480"/>
              <a:gd name="textAreaBottom" fmla="*/ 1519920 h 1752480"/>
            </a:gdLst>
            <a:ahLst/>
            <a:rect l="textAreaLeft" t="textAreaTop" r="textAreaRight" b="textAreaBottom"/>
            <a:pathLst>
              <a:path w="22540" h="21600">
                <a:moveTo>
                  <a:pt x="0" y="0"/>
                </a:moveTo>
                <a:lnTo>
                  <a:pt x="22540" y="0"/>
                </a:lnTo>
                <a:lnTo>
                  <a:pt x="22540" y="21600"/>
                </a:lnTo>
                <a:lnTo>
                  <a:pt x="0" y="21600"/>
                </a:lnTo>
                <a:close/>
              </a:path>
              <a:path fill="lightenLess" w="22540" h="21600">
                <a:moveTo>
                  <a:pt x="0" y="0"/>
                </a:moveTo>
                <a:lnTo>
                  <a:pt x="22540" y="0"/>
                </a:lnTo>
                <a:lnTo>
                  <a:pt x="19675" y="2866"/>
                </a:lnTo>
                <a:lnTo>
                  <a:pt x="2866" y="2866"/>
                </a:lnTo>
                <a:close/>
              </a:path>
              <a:path fill="darken" w="22540" h="21600">
                <a:moveTo>
                  <a:pt x="22540" y="0"/>
                </a:moveTo>
                <a:lnTo>
                  <a:pt x="22540" y="21600"/>
                </a:lnTo>
                <a:lnTo>
                  <a:pt x="19675" y="18734"/>
                </a:lnTo>
                <a:lnTo>
                  <a:pt x="19675" y="2866"/>
                </a:lnTo>
                <a:close/>
              </a:path>
              <a:path fill="darkenLess" w="22540" h="21600">
                <a:moveTo>
                  <a:pt x="22540" y="21600"/>
                </a:moveTo>
                <a:lnTo>
                  <a:pt x="0" y="21600"/>
                </a:lnTo>
                <a:lnTo>
                  <a:pt x="2866" y="18734"/>
                </a:lnTo>
                <a:lnTo>
                  <a:pt x="19675" y="18734"/>
                </a:lnTo>
                <a:close/>
              </a:path>
              <a:path fill="lighten" w="22540" h="21600">
                <a:moveTo>
                  <a:pt x="0" y="21600"/>
                </a:moveTo>
                <a:lnTo>
                  <a:pt x="0" y="0"/>
                </a:lnTo>
                <a:lnTo>
                  <a:pt x="2866" y="2866"/>
                </a:lnTo>
                <a:lnTo>
                  <a:pt x="2866" y="18734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a2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600" spc="-1" strike="noStrike">
                <a:solidFill>
                  <a:srgbClr val="000000"/>
                </a:solidFill>
                <a:latin typeface="Arial"/>
              </a:rPr>
              <a:t>Cheaters Never Win</a:t>
            </a:r>
            <a:endParaRPr b="0" lang="en-US" sz="1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90920" y="5638680"/>
            <a:ext cx="3886200" cy="1067040"/>
          </a:xfrm>
          <a:custGeom>
            <a:avLst/>
            <a:gdLst>
              <a:gd name="textAreaLeft" fmla="*/ 146880 w 3886200"/>
              <a:gd name="textAreaRight" fmla="*/ 3739320 w 3886200"/>
              <a:gd name="textAreaTop" fmla="*/ 146880 h 1067040"/>
              <a:gd name="textAreaBottom" fmla="*/ 920160 h 1067040"/>
            </a:gdLst>
            <a:ahLst/>
            <a:rect l="textAreaLeft" t="textAreaTop" r="textAreaRight" b="textAreaBottom"/>
            <a:pathLst>
              <a:path w="78649" h="21600">
                <a:moveTo>
                  <a:pt x="0" y="0"/>
                </a:moveTo>
                <a:lnTo>
                  <a:pt x="78649" y="0"/>
                </a:lnTo>
                <a:lnTo>
                  <a:pt x="78649" y="21600"/>
                </a:lnTo>
                <a:lnTo>
                  <a:pt x="0" y="21600"/>
                </a:lnTo>
                <a:close/>
              </a:path>
              <a:path fill="lightenLess" w="78649" h="21600">
                <a:moveTo>
                  <a:pt x="0" y="0"/>
                </a:moveTo>
                <a:lnTo>
                  <a:pt x="78649" y="0"/>
                </a:lnTo>
                <a:lnTo>
                  <a:pt x="75675" y="2974"/>
                </a:lnTo>
                <a:lnTo>
                  <a:pt x="2974" y="2974"/>
                </a:lnTo>
                <a:close/>
              </a:path>
              <a:path fill="darken" w="78649" h="21600">
                <a:moveTo>
                  <a:pt x="78649" y="0"/>
                </a:moveTo>
                <a:lnTo>
                  <a:pt x="78649" y="21600"/>
                </a:lnTo>
                <a:lnTo>
                  <a:pt x="75675" y="18626"/>
                </a:lnTo>
                <a:lnTo>
                  <a:pt x="75675" y="2974"/>
                </a:lnTo>
                <a:close/>
              </a:path>
              <a:path fill="darkenLess" w="78649" h="21600">
                <a:moveTo>
                  <a:pt x="78649" y="21600"/>
                </a:moveTo>
                <a:lnTo>
                  <a:pt x="0" y="21600"/>
                </a:lnTo>
                <a:lnTo>
                  <a:pt x="2974" y="18626"/>
                </a:lnTo>
                <a:lnTo>
                  <a:pt x="75675" y="18626"/>
                </a:lnTo>
                <a:close/>
              </a:path>
              <a:path fill="lighten" w="78649" h="21600">
                <a:moveTo>
                  <a:pt x="0" y="21600"/>
                </a:moveTo>
                <a:lnTo>
                  <a:pt x="0" y="0"/>
                </a:lnTo>
                <a:lnTo>
                  <a:pt x="2974" y="2974"/>
                </a:lnTo>
                <a:lnTo>
                  <a:pt x="2974" y="1862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828800" y="914400"/>
            <a:ext cx="5410080" cy="441972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43200" y="5486400"/>
            <a:ext cx="3886200" cy="1066680"/>
          </a:xfrm>
          <a:custGeom>
            <a:avLst/>
            <a:gdLst>
              <a:gd name="textAreaLeft" fmla="*/ 168120 w 3886200"/>
              <a:gd name="textAreaRight" fmla="*/ 3718080 w 3886200"/>
              <a:gd name="textAreaTop" fmla="*/ 168120 h 1066680"/>
              <a:gd name="textAreaBottom" fmla="*/ 898560 h 1066680"/>
            </a:gdLst>
            <a:ahLst/>
            <a:rect l="textAreaLeft" t="textAreaTop" r="textAreaRight" b="textAreaBottom"/>
            <a:pathLst>
              <a:path w="78675" h="21600">
                <a:moveTo>
                  <a:pt x="0" y="0"/>
                </a:moveTo>
                <a:lnTo>
                  <a:pt x="78675" y="0"/>
                </a:lnTo>
                <a:lnTo>
                  <a:pt x="78675" y="21600"/>
                </a:lnTo>
                <a:lnTo>
                  <a:pt x="0" y="21600"/>
                </a:lnTo>
                <a:close/>
              </a:path>
              <a:path fill="lightenLess" w="78675" h="21600">
                <a:moveTo>
                  <a:pt x="0" y="0"/>
                </a:moveTo>
                <a:lnTo>
                  <a:pt x="78675" y="0"/>
                </a:lnTo>
                <a:lnTo>
                  <a:pt x="75268" y="3407"/>
                </a:lnTo>
                <a:lnTo>
                  <a:pt x="3407" y="3407"/>
                </a:lnTo>
                <a:close/>
              </a:path>
              <a:path fill="darken" w="78675" h="21600">
                <a:moveTo>
                  <a:pt x="78675" y="0"/>
                </a:moveTo>
                <a:lnTo>
                  <a:pt x="78675" y="21600"/>
                </a:lnTo>
                <a:lnTo>
                  <a:pt x="75268" y="18193"/>
                </a:lnTo>
                <a:lnTo>
                  <a:pt x="75268" y="3407"/>
                </a:lnTo>
                <a:close/>
              </a:path>
              <a:path fill="darkenLess" w="78675" h="21600">
                <a:moveTo>
                  <a:pt x="78675" y="21600"/>
                </a:moveTo>
                <a:lnTo>
                  <a:pt x="0" y="21600"/>
                </a:lnTo>
                <a:lnTo>
                  <a:pt x="3407" y="18193"/>
                </a:lnTo>
                <a:lnTo>
                  <a:pt x="75268" y="18193"/>
                </a:lnTo>
                <a:close/>
              </a:path>
              <a:path fill="lighten" w="78675" h="21600">
                <a:moveTo>
                  <a:pt x="0" y="21600"/>
                </a:moveTo>
                <a:lnTo>
                  <a:pt x="0" y="0"/>
                </a:lnTo>
                <a:lnTo>
                  <a:pt x="3407" y="3407"/>
                </a:lnTo>
                <a:lnTo>
                  <a:pt x="3407" y="1819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y Aga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981080" y="685800"/>
            <a:ext cx="5029200" cy="838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You Won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137160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edits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² Games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Thanks for Play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14:21:53Z</dcterms:created>
  <dc:creator>CGB</dc:creator>
  <dc:description/>
  <dc:language>en-US</dc:language>
  <cp:lastModifiedBy>CGB</cp:lastModifiedBy>
  <dcterms:modified xsi:type="dcterms:W3CDTF">2008-06-11T13:48:38Z</dcterms:modified>
  <cp:revision>6</cp:revision>
  <dc:subject/>
  <dc:title>THE CAT N’ MOUSE GAME</dc:title>
</cp:coreProperties>
</file>